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426-FA0B-4263-9866-1FE4A8AA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CF5-2F0D-4366-A678-36946834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19DE-695A-4ED6-84C3-6E4D1C24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A62-1536-47DE-BFC9-144C206C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E83-0897-4085-A666-D865A8B6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66C-C6B9-44DE-A79E-889B7FC7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201-6F45-48BF-ADAB-6AD8B3E1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104-E65E-4F84-97CB-70751106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7D2-F0CD-4A71-A718-DD87DB90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3FF-B7E5-4760-A2C3-D683E5F2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7F5-E5C9-4614-96E9-970CC1B5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566-61C3-40CB-B3E3-63DC4945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47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FD94-7B23-4E34-96D3-5571010D6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Brush Script MT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2" descr="Vladmir.jpg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1" descr="Boris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medvedev-1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t3.gstatic.com/images?q=tbn:ANd9GcQr1LrsoHQJr2uxSzMsdhx395TqtyZyG01UdLX_-3E5rMYvy2uQqA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http://t1.gstatic.com/images?q=tbn:ANd9GcRF70OPQIR3zOL9oapKiZ9YjfRqff5-mYMutL1Pnzm35yDv8Iy7oA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cademy Engraved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cademy Engraved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cademy Engraved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cademy Engraved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ise the price and many people couldn’t afford it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cademy Engraved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KUNG</cp:lastModifiedBy>
  <dcterms:modified xsi:type="dcterms:W3CDTF">2010-12-14T21:55:39Z</dcterms:modified>
  <cp:revision>11</cp:revision>
  <dc:subject/>
  <dc:title>Present Day Russia</dc:title>
</cp:coreProperties>
</file>